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3.jpeg" ContentType="image/jpeg"/>
  <Override PartName="/ppt/media/image24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44E-AFE9-4E60-B4BE-CBEB8D16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52A-40D8-4CEE-8419-D2BEEA67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E79E-61D8-4ECA-96C6-BB40BA43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A15-1730-4C4F-8F4C-7E158DB0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297-53D4-4855-A55D-31180C9C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0DF-F47B-467C-9C55-38AE375F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8C0-A7D7-42EF-8A57-1F39E728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A47-3B7E-404B-B5FA-DAFE8878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CE7-77C7-42F5-BB03-ECFABD22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C5C-F350-430B-A60E-E384973E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3DE-BDD1-4787-A9B4-64C2232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140-90BA-4BDE-AE8B-58F4AC8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B140-E211-49D9-A671-7111946C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BC Book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3399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4228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Is Mo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pend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ave Money As Change,Credit Card,Or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4267080"/>
            <a:ext cx="17938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a2d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J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0a2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l Is A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hen They  Did Have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4271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King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James Had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Kings Had All Types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ings Could Pick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8880" y="3657600"/>
            <a:ext cx="14828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2b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 Is For Langu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2b2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Tribes Spoke Differen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 Little Motions Or Signs For Other People Could Understand What Were They S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182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9c4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Mid-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9c42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Atlantic Is A Bay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25560" cy="13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7696080" y="38098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809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7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Native Ameri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7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s In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 F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10280" y="4114800"/>
            <a:ext cx="18417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b4d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Opport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b4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is A Chance The Tribes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9400" y="3505320"/>
            <a:ext cx="1984320" cy="2554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ad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7adf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s A Crow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800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f0fb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Queen Elizab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f0fb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Elizabeth Is A Queen Who Ra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2920" y="4038480"/>
            <a:ext cx="1496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c2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c24b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Meant To The Tribes Was Chatting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4672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Artis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rtisan is a craftsman that works in small towns and vill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7733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solidFill>
            <a:srgbClr val="082ad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S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solidFill>
            <a:srgbClr val="082ad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In The Days There We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Had No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Had To Work For The Owners And Other Peo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4708440"/>
            <a:ext cx="2798640" cy="214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4500720"/>
            <a:ext cx="353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5e3e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5e3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 Were Like Is Like A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 Is A Lot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y Is A Bank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3657600" cy="24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438280" y="47242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724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b3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b3b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s Is Food Being Grown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s Is Also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381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ee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6eef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sease Is A Kind Of Sick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n Also Die From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305100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648320" y="4419720"/>
          <a:ext cx="30456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4197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0f5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0f5a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cation Is Something You Get From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8f6a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F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8f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rmer Is A Person Who Grow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G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 Is A Crop That Is In Food Such As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701880" cy="345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3009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Is For Hom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 is a place where you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 give you com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7082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5:00Z</dcterms:created>
  <dc:creator>shequisha.jones</dc:creator>
  <dc:description/>
  <dc:language>en-US</dc:language>
  <cp:lastModifiedBy>shequisha.jones</cp:lastModifiedBy>
  <dcterms:modified xsi:type="dcterms:W3CDTF">2008-03-25T17:19:01Z</dcterms:modified>
  <cp:revision>7</cp:revision>
  <dc:subject/>
  <dc:title>ABC Booklet</dc:title>
</cp:coreProperties>
</file>